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C21-C72C-41E9-A3CC-9B949F0F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74A-F35D-4E2A-B34A-9C103190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882-D3D7-41AE-8116-13DE6379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64F-48F3-4FAC-AE6F-81D91CD7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7B706-1D75-467C-B5B6-D1096F61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DA1CB-3AFC-487D-80E2-36DECCE8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B237D-A362-43ED-B6D4-7FBA1956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C6745-94A1-480B-BA34-F2BCF5C3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F911E-E1B2-41B7-BFE6-4F4F6642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F021C-2681-4319-BDDC-579DA800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05F5C-E4E7-45C4-93BE-60877BA0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8DC-AAAA-48BF-86D7-8C293BD4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A2DEE-1173-44EB-88D1-D47A9E3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3577F-D1D6-46C5-8D8A-CDFF3552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366BC-CBDB-423E-81E8-04812666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11F41-2C0D-4DEA-8FB3-F05FDC57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37BDC-83BE-4619-A142-F6F5A398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3EC-A321-44E3-8473-135C1E7B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D48-64E2-46CF-BC0E-BA88F111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60F-03FA-4988-8FF9-F5A9A721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D40-977D-409F-B232-BF64D266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C6C-245C-4003-B863-62033329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F2A-03D1-457B-80ED-906A2405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DA5-CE99-4F36-8862-ED839207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FAB8-FA04-47AE-B4B1-99D866A9B18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B157-31DA-477B-955A-D7336B63687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1557360"/>
            <a:ext cx="7417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مخــزون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852640"/>
            <a:ext cx="5047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6720" y="1197000"/>
            <a:ext cx="36100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013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ادة ما يتم تخفيض قيمة المخزون إلى صافى قيمته البيعية على أساس كل بند على ح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يكون مناسباً تجميع البنود المتجانسة أو المتعلق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بعض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فى مجموع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عتمد تقدير صافى القيمة البيعية على الدلائل المتاحة التى يمكن أن يعتد بها وقت إعداد هذا التقدير والتى يكون من المتوقع أن تحققها بنود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3280" y="549360"/>
            <a:ext cx="3683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ميل على المصرو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مل القيمة الدفترية للمخزون المباع كمصروف فى الفترة التى تحقق فيها الإيراد الناتج عن البي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معالجة قيمة أى رد لأى تخفيض فى قيمة المخزون الناشئ عن الزيادة فى صافى قيمته البيعية كتخفيض فى تكلفة المخزون المباع فى الفترة التى تم الرد في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تستخدم بعض بنود المخزون فى إنشاء أصول ثابتة وعندئذ تحمل تكلفة هذه البنود على حسابات هذه الأصو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3640" y="333000"/>
            <a:ext cx="18939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لإفصــــاح</a:t>
            </a:r>
            <a:r>
              <a:rPr b="0" lang="ar-EG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91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61160" indent="0" algn="r" rtl="1">
              <a:lnSpc>
                <a:spcPct val="90000"/>
              </a:lnSpc>
              <a:spcBef>
                <a:spcPts val="901"/>
              </a:spcBef>
              <a:spcAft>
                <a:spcPts val="20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يجب أن تفصح القوائم المالية عن الآتي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سياسات المحاسبية المتبعة عند قياس قيمة المخزون بما فى ذلك الطريقة المستخدمة لحساب التكلف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ى تغيير فى السياسات المحاسبية المتعلقة بالمخزون والأسباب الضرورية لهذا التعديل وأثر هذا التعديل فى الفترة الجارية والفترات الساب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جمالى القيمة الدفترية للمخزون مبوبة تبويباً مناسباً يتفق مع طبيعة نشاط المنشأ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للمخزون بصافى قيمته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يمة المخزون المرهون كضمان الالتزام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410920" y="2565360"/>
            <a:ext cx="490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حالات عمليــ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720" y="475920"/>
            <a:ext cx="1954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ثال (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شترت شركة رولا مخزون فى أول يناي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كانت صافى القيمة البيعي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، و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اعت الشركة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قاً لما سبق، أى من البيانات التالية صحيحاً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ـ- 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ما يظهر فى قائمة الدخل كمكسب هو 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 - فى السنة المالية المنته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الشركة اعترفت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د) هو ال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تتطلب معايير المحاسبة المصرية أن يتم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قييم المخزون آخر المدة بالتكلفة أو صافى القيمة البيعية أيهما أقل، وينبغى على الشركة الاعتراف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(عبارة عن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فى قائمة الدخل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ينبغى الاعتراف بربح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يعترف بها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 أ 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ه يجب تخفيض المخزون الى القيمة السوقية فى نهاية ال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ب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 واقع أن المخزون تم بيعه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نيه مصرى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يس له تأثير على رصيد المخزون فى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ج) غير 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أن بيع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يجب مقارنته بقيمة المخزون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الذى كان القيمة الاقل من التكلفة أو صافى القيمة البيعية أى النتيجة تحقيق مكسب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عبارة عن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ال (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915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يما يلى بعض المعلومات المتعلقة بشركة الياسمين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47640" y="2060640"/>
          <a:ext cx="6991560" cy="2070000"/>
        </p:xfrm>
        <a:graphic>
          <a:graphicData uri="http://schemas.openxmlformats.org/drawingml/2006/table">
            <a:tbl>
              <a:tblPr/>
              <a:tblGrid>
                <a:gridCol w="2376720"/>
                <a:gridCol w="46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شتريات بغرض ا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رتجعات للب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وائد على الحسابات الدائن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صروفات شحن البض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755640" y="450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فإن تكلفة المخزون سوف تكون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297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ب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 (ج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4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 د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16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48000" y="333000"/>
            <a:ext cx="1738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83628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أ ) غير صحيح، لأن مصروفات الشحن يجب أن تدخل كجزء من تكلفة المخزو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ب) غير صحيح، لأنه بالاضافة الى مشتريات البضاعة فإن البضاعة المرتجعة ومصروفات الشحن يجب إدخالهما ضمن الحساب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د) غير صحيح، لأن تكلفة الفائدة على التمويل لا تدخل ضمن تكلفة المخزون (إلا فى ظل إشتراطات معينة كما جاء فى المعيار المحاسبى المصرى رقم (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) والمتعلق بتكلفة الاقترا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ffff00"/>
                </a:solidFill>
                <a:uFillTx/>
                <a:latin typeface="Arial"/>
              </a:rPr>
              <a:t>وتتلخص الاشتراطات فى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يتطلب المخزون فترة زمنية طويلة لاعداده وبيعه مثل شركات الاستثمار العقا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تكون تكلفة الاقتراض فعلية وليس افتراض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عدم استكمال الاصل بشكل جوه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63640" y="1268280"/>
          <a:ext cx="6918480" cy="1822680"/>
        </p:xfrm>
        <a:graphic>
          <a:graphicData uri="http://schemas.openxmlformats.org/drawingml/2006/table">
            <a:tbl>
              <a:tblPr/>
              <a:tblGrid>
                <a:gridCol w="2448000"/>
                <a:gridCol w="4470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شتريا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مصروفات الشح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) مرتجعات للبائ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4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31640" y="1341360"/>
            <a:ext cx="3024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9640" y="2421000"/>
            <a:ext cx="4691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تعريفـــ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افصا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حالات عم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7640" y="29239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7931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شرح المعالجة المحاسبية ل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وفر هذا المعيار إرشادا عملياً لتحديد التكلفة وما سيتتبع ذلك من الاعتراف بها كمصروفات بما فى ذلك أى تخفيض فى القيمة للوصول إلى صافى القيمة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أنه يوفر إرشادات عن طرق حساب التكلفة التى تستخدم لتحميل التكاليف على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659280" y="691920"/>
            <a:ext cx="2027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59280" y="260280"/>
            <a:ext cx="2952720" cy="1059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معيار المحاسبة المصرى رقم (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84280"/>
            <a:ext cx="2089080" cy="785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ول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تعريف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1484280"/>
            <a:ext cx="208908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نيـ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قياس قيمة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413000"/>
            <a:ext cx="252072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لثـا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افصاح عن المخزون فى القوائم المال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105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835280" y="1197000"/>
            <a:ext cx="590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9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70828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تكلفة أو صافة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3789360"/>
            <a:ext cx="208908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  - قياس التكلف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3860640"/>
            <a:ext cx="25192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ب – قياس صافى القيمة البي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60640"/>
            <a:ext cx="2773440" cy="119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جـ- كيفية تطبيق طريقة التكلفة أو صافى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إقتناء أو الحصول على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869000"/>
            <a:ext cx="2521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والمنصرف خلال الفترة للانتاج أو البي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المتبقى آخر الفت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619776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تجارية والمواد الخ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صنا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خدم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18920" y="3645000"/>
            <a:ext cx="59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42940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63280" y="458136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581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45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2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5516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339640" y="5805360"/>
            <a:ext cx="532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80536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80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72000" y="404640"/>
            <a:ext cx="2314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ـــــــات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خزون هو أص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( أ 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حتفظ به بغرض البيع ضمن النشاط العادى للمنشأ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ب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مرحلة الانتاج ليصبح قابلاً ل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ج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شكل مواد خام أو مهمات تستخدم فى مراحل الانتاج أو فى تقديم الخدمات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068640"/>
            <a:ext cx="828036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سعر التقديرى للبيع من خلال  النشاط العادى ناقصاً التكلفة التقديرية للاتمام وكذلك أية تكلفة أخرى تستلزمها إتمام عملية ا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قيمة العادل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هى القيمة التى يمكن بموجبها تبادل أصل أو تسوية التزام بين أطراف كل منهم لديه الرغبة فى التبادل وعلى بينة من الحقائق ويتعاملان بإرادة ح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340000" y="2707920"/>
            <a:ext cx="4896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96000" y="1268280"/>
            <a:ext cx="2890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حساب التكلفة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358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حميل بنود المخزون المحددة بذاتها والمنتجات والخدمات التى يمكن فصلها ويتم ربطها بمشروعات معينة بعناصر التكاليف الخاصة بكل منها على حد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ستخدام طريقة الوارد أولاً يصرف أولاً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 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طريقة المتوسط المرجح للتكلفة عند تحديد تكلفة المخزون فى الحالات الأخرى خلاف تلك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تى يتم فيها تحميل بنود المخزون المحددة بذاتها والمنتجات والخدمات التى يمكن فصلها ويتم ربطها بمشروعات معينة بعناصر التكاليف الخاصة بكل منها على حد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51640" y="1052280"/>
            <a:ext cx="2962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 لا يمكن استرداد تكلفة المخزون إذا ما تعرض للتلف أو التقادم الكلى أو الجزئى أو إذا انخفض سعر بيعه 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لا يمكن أيضاً استرداد تكلفة المخزون إذا زادت التكلفة التقديرية لإتمامه أو إذا زادت التكلفة التقديرية المتوقع تحملها لإتمام عملية البيع عن سعر بيع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r.mansour</cp:lastModifiedBy>
  <dcterms:modified xsi:type="dcterms:W3CDTF">2006-12-11T13:26:42Z</dcterms:modified>
  <cp:revision>47</cp:revision>
  <dc:subject/>
  <dc:title>معيار المحاسبة المصرى رقم (14) تكلفة الاقتراض</dc:title>
</cp:coreProperties>
</file>